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9F0-211D-4F3C-BA8D-7DD2DB20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F25-959F-4F48-B20B-59660D5C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C10-EEBE-4792-8CA9-55AC2799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5F2-45B0-4AC9-93A0-DF4E2CF9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430-5DFF-479D-8002-02FD222D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B7E-7D58-4324-B06E-3CFB4D30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AEE-82B6-478F-A03B-1762A478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CDA-A4B6-47FA-B4B5-8B73211B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1D0-1BA0-47CF-8839-8A1F2A04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3D3-FF7D-47F6-BC44-6BEBF149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745-6F49-401E-AC44-6025952B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8E0-11C3-422E-A651-3A698356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BF26-DE51-452E-864D-F9D3024BA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29528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8153280" y="12952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INAIRN  MILLENNIUM                     BALORNOCK                                     BALORNOCK                                  BALORNOCK                             BELMONT  PUBLIC                                     BELVID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5"/>
          <p:cNvSpPr/>
          <p:nvPr/>
        </p:nvSpPr>
        <p:spPr>
          <a:xfrm>
            <a:off x="0" y="5006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VIDERE                              BELLVIDERE  125TH                      BELVIDERE  150TH                BELVIDERE  HOSPITAL  PUBLIC               BISHOPBRIGGS                                 BISHOPBRIGG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ISHOPBRIGGS  100TH                            BLACKHILL                                     BLACKHILL                                        BLACKHILL                                   BLACKHILL  60TH                       BLACKHIL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0" y="14479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ALBION  ST.. CLAIR  PUBLIC                     AUCHINAIRN                                 AUCHINAIRN                                    AUCHINAIRN                              AUCHINAIRN  50TH  .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4" descr="Glasgow Assoc1"/>
          <p:cNvPicPr/>
          <p:nvPr/>
        </p:nvPicPr>
        <p:blipFill>
          <a:blip r:embed="rId1"/>
          <a:stretch/>
        </p:blipFill>
        <p:spPr>
          <a:xfrm>
            <a:off x="560520" y="26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5" descr="Albion St"/>
          <p:cNvPicPr/>
          <p:nvPr/>
        </p:nvPicPr>
        <p:blipFill>
          <a:blip r:embed="rId2"/>
          <a:stretch/>
        </p:blipFill>
        <p:spPr>
          <a:xfrm>
            <a:off x="2216160" y="620640"/>
            <a:ext cx="895320" cy="87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6" descr="Auchinairn 1"/>
          <p:cNvPicPr/>
          <p:nvPr/>
        </p:nvPicPr>
        <p:blipFill>
          <a:blip r:embed="rId3"/>
          <a:stretch/>
        </p:blipFill>
        <p:spPr>
          <a:xfrm>
            <a:off x="3657600" y="620640"/>
            <a:ext cx="1042920" cy="87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8" descr="Auchinairn 3"/>
          <p:cNvPicPr/>
          <p:nvPr/>
        </p:nvPicPr>
        <p:blipFill>
          <a:blip r:embed="rId4"/>
          <a:stretch/>
        </p:blipFill>
        <p:spPr>
          <a:xfrm>
            <a:off x="5168880" y="260280"/>
            <a:ext cx="1079640" cy="120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9" descr="Auchinairn 4"/>
          <p:cNvPicPr/>
          <p:nvPr/>
        </p:nvPicPr>
        <p:blipFill>
          <a:blip r:embed="rId5"/>
          <a:stretch/>
        </p:blipFill>
        <p:spPr>
          <a:xfrm>
            <a:off x="6681960" y="40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0" descr="Auchinairn 50th"/>
          <p:cNvPicPr/>
          <p:nvPr/>
        </p:nvPicPr>
        <p:blipFill>
          <a:blip r:embed="rId6"/>
          <a:stretch/>
        </p:blipFill>
        <p:spPr>
          <a:xfrm>
            <a:off x="8193240" y="40464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1" descr="Auchinairn Millennium"/>
          <p:cNvPicPr/>
          <p:nvPr/>
        </p:nvPicPr>
        <p:blipFill>
          <a:blip r:embed="rId7"/>
          <a:stretch/>
        </p:blipFill>
        <p:spPr>
          <a:xfrm>
            <a:off x="704880" y="2276640"/>
            <a:ext cx="768240" cy="987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2" descr="Balornock 1"/>
          <p:cNvPicPr/>
          <p:nvPr/>
        </p:nvPicPr>
        <p:blipFill>
          <a:blip r:embed="rId8"/>
          <a:stretch/>
        </p:blipFill>
        <p:spPr>
          <a:xfrm>
            <a:off x="1928880" y="1844640"/>
            <a:ext cx="1481040" cy="141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3" descr="Balornock 2"/>
          <p:cNvPicPr/>
          <p:nvPr/>
        </p:nvPicPr>
        <p:blipFill>
          <a:blip r:embed="rId9"/>
          <a:stretch/>
        </p:blipFill>
        <p:spPr>
          <a:xfrm>
            <a:off x="3584520" y="20606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4" descr="Balornock 3"/>
          <p:cNvPicPr/>
          <p:nvPr/>
        </p:nvPicPr>
        <p:blipFill>
          <a:blip r:embed="rId10"/>
          <a:stretch/>
        </p:blipFill>
        <p:spPr>
          <a:xfrm>
            <a:off x="5024520" y="1844640"/>
            <a:ext cx="1390680" cy="141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5" descr="Belmont Public"/>
          <p:cNvPicPr/>
          <p:nvPr/>
        </p:nvPicPr>
        <p:blipFill>
          <a:blip r:embed="rId11"/>
          <a:stretch/>
        </p:blipFill>
        <p:spPr>
          <a:xfrm>
            <a:off x="6681960" y="2276640"/>
            <a:ext cx="1042920" cy="987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6" descr="Belvidere 1"/>
          <p:cNvPicPr/>
          <p:nvPr/>
        </p:nvPicPr>
        <p:blipFill>
          <a:blip r:embed="rId12"/>
          <a:stretch/>
        </p:blipFill>
        <p:spPr>
          <a:xfrm>
            <a:off x="8408880" y="2060640"/>
            <a:ext cx="97020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9" descr="Belvidere 2"/>
          <p:cNvPicPr/>
          <p:nvPr/>
        </p:nvPicPr>
        <p:blipFill>
          <a:blip r:embed="rId13"/>
          <a:stretch/>
        </p:blipFill>
        <p:spPr>
          <a:xfrm>
            <a:off x="631800" y="3860640"/>
            <a:ext cx="91440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0" descr="Belvidere 125th"/>
          <p:cNvPicPr/>
          <p:nvPr/>
        </p:nvPicPr>
        <p:blipFill>
          <a:blip r:embed="rId14"/>
          <a:stretch/>
        </p:blipFill>
        <p:spPr>
          <a:xfrm>
            <a:off x="2144880" y="3429000"/>
            <a:ext cx="1006200" cy="163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1" descr="Belvidere Hospital Public"/>
          <p:cNvPicPr/>
          <p:nvPr/>
        </p:nvPicPr>
        <p:blipFill>
          <a:blip r:embed="rId15"/>
          <a:stretch/>
        </p:blipFill>
        <p:spPr>
          <a:xfrm>
            <a:off x="5168880" y="3860640"/>
            <a:ext cx="1042920" cy="112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3" descr="Bishopbriggs 1"/>
          <p:cNvPicPr/>
          <p:nvPr/>
        </p:nvPicPr>
        <p:blipFill>
          <a:blip r:embed="rId16"/>
          <a:stretch/>
        </p:blipFill>
        <p:spPr>
          <a:xfrm>
            <a:off x="6608880" y="393372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Bishopbriggs 2"/>
          <p:cNvPicPr/>
          <p:nvPr/>
        </p:nvPicPr>
        <p:blipFill>
          <a:blip r:embed="rId17"/>
          <a:stretch/>
        </p:blipFill>
        <p:spPr>
          <a:xfrm>
            <a:off x="8193240" y="393372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6" descr="Blackhill 1"/>
          <p:cNvPicPr/>
          <p:nvPr/>
        </p:nvPicPr>
        <p:blipFill>
          <a:blip r:embed="rId18"/>
          <a:stretch/>
        </p:blipFill>
        <p:spPr>
          <a:xfrm>
            <a:off x="2144880" y="5516640"/>
            <a:ext cx="1006200" cy="1033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7" descr="Blackhill 2"/>
          <p:cNvPicPr/>
          <p:nvPr/>
        </p:nvPicPr>
        <p:blipFill>
          <a:blip r:embed="rId19"/>
          <a:stretch/>
        </p:blipFill>
        <p:spPr>
          <a:xfrm>
            <a:off x="3584520" y="5589720"/>
            <a:ext cx="117000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Blackhill 4"/>
          <p:cNvPicPr/>
          <p:nvPr/>
        </p:nvPicPr>
        <p:blipFill>
          <a:blip r:embed="rId20"/>
          <a:stretch/>
        </p:blipFill>
        <p:spPr>
          <a:xfrm>
            <a:off x="5097600" y="5589720"/>
            <a:ext cx="1371600" cy="100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1" descr="Bishopbriggs  100th"/>
          <p:cNvPicPr/>
          <p:nvPr/>
        </p:nvPicPr>
        <p:blipFill>
          <a:blip r:embed="rId21"/>
          <a:stretch/>
        </p:blipFill>
        <p:spPr>
          <a:xfrm>
            <a:off x="488880" y="5373720"/>
            <a:ext cx="1236600" cy="120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Blackhill 50th"/>
          <p:cNvPicPr/>
          <p:nvPr/>
        </p:nvPicPr>
        <p:blipFill>
          <a:blip r:embed="rId22"/>
          <a:stretch/>
        </p:blipFill>
        <p:spPr>
          <a:xfrm>
            <a:off x="6681960" y="5373720"/>
            <a:ext cx="1315800" cy="1216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Belvidere 150th.jpg"/>
          <p:cNvPicPr/>
          <p:nvPr/>
        </p:nvPicPr>
        <p:blipFill>
          <a:blip r:embed="rId23"/>
          <a:stretch/>
        </p:blipFill>
        <p:spPr>
          <a:xfrm>
            <a:off x="3657600" y="3860640"/>
            <a:ext cx="984240" cy="1211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7" descr="Blackhill 75th"/>
          <p:cNvPicPr/>
          <p:nvPr/>
        </p:nvPicPr>
        <p:blipFill>
          <a:blip r:embed="rId24"/>
          <a:stretch/>
        </p:blipFill>
        <p:spPr>
          <a:xfrm>
            <a:off x="8265960" y="5516640"/>
            <a:ext cx="10972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15:47:11Z</dcterms:created>
  <dc:creator>JOHN YOUNG</dc:creator>
  <dc:description/>
  <dc:language>en-US</dc:language>
  <cp:lastModifiedBy>John</cp:lastModifiedBy>
  <cp:lastPrinted>2000-06-19T07:54:01Z</cp:lastPrinted>
  <dcterms:modified xsi:type="dcterms:W3CDTF">2011-11-15T22:31:45Z</dcterms:modified>
  <cp:revision>38</cp:revision>
  <dc:subject/>
  <dc:title>No Slide Title</dc:title>
</cp:coreProperties>
</file>